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AD4A-41E5-4130-BEFD-26A49D77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3BB3-05AF-4DBB-928D-57B75E36DB91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9D0A-EE2F-42C8-A027-8EF3E78DB4F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1314-0F70-4B05-ABA1-7F463DDB054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30C-B185-4A42-882A-00A206D6532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D5E2-F759-43A0-9D26-2372B512A6F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A1E-CB83-4C6F-839D-880FCE5234B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5DFF-2E3D-4E86-8F1E-BC0ACCB70D00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59ED-57E8-4901-88EC-01A28834EA6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818-3F21-42CF-827A-18014A30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ECA-6853-4097-9FF0-6D8D2D40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9C9-1F73-41CD-9C60-B6AC9B11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BC2-E27D-4440-876F-6E430863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6581-6216-4E22-B3F5-4CA0D77D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2D16-0FF4-413A-9C5B-76FC73DE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09F6-CA77-49ED-8C26-30EE1A6B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60AD-348B-4837-AA1B-6D9B63E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9159-0B52-45C1-9BB4-6F89A43C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0A74-CBA3-4979-89F6-FA57AE70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AFBC-4BF8-4A7F-A872-9989E5F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1BF-D136-42F7-9FD9-D2C2C1F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0005-371C-4EE3-8869-E5E42F87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8F9-B232-49E6-BB09-19A9EEAD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F026-3DED-4AF4-9C1C-84BE54F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040A-1FC6-4F75-BDF3-736CE7D1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4A81-69C4-489B-B286-0DC19EE1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0EDE-33B4-4D73-AFA9-9EACD65F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C70D-08D0-4CF7-B43F-0B3CBC0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5D39-478A-4B78-98BF-D0D9F603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0C44-A762-489C-88FC-4434709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7280-76C1-433C-81D1-2BB86D2A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503-5E38-4E6B-A72B-99BA0C32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509B-D995-4E0C-A154-17405532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D40C-A85E-4635-8DE8-11D43E31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C4AD-9C9D-4F0B-86E2-94511BE8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DE33-57A5-450C-B053-387987F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F7BB-89FE-48B0-BA91-52297CF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C467-5F56-4E49-8921-0160FA3B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5B11-ABEE-471A-BC30-19142086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096F-B922-498E-8BD2-41964F6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2073-8D76-4B23-8175-FD37E1C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606D-D09A-4B88-A757-4F32925C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B4F-ED44-428C-8D12-F0474E8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B3E1-8624-4020-BEB2-B0B0C074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DF83-2FEE-4244-9B9F-F8DDCB75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31D5-A1BE-490C-ADE0-175B636D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D115-DCF1-4268-A064-F2D6B75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AD9E-FFA9-4AC3-8741-BC790004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EF0C-CE18-4412-94A1-26939578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4830-DA3D-47E2-8E1C-40702F92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81B56-5382-4DBB-85F3-2ED25C0B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6804-0D7D-4D81-BDF4-2892FA49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3DE-D009-4323-BA29-6BEA9548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748-8A2A-4F7B-B766-5D12B236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DE2-2B31-4452-9196-168ED15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308-4FBE-4AC5-880E-B2DE1132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C9A-499C-45B7-ABD5-C116E16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49D-A43F-4FC1-A13D-20A7E57D581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316-DF65-46AB-8C80-164B6AF636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31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32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33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3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37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40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241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244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247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9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50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2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253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56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8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59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1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62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3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4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65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7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68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71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3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74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6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77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8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9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80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1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2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8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4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5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86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8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89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0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1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92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3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4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9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6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7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98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9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0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301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2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3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05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306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309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312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15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18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321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324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327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330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2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33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5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336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7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38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39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40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7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48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49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0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1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2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3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4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5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6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7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8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9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0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1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2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747E-1E76-4093-8181-2CF8A0BE1DC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0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0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sp>
          <p:nvSpPr>
            <p:cNvPr id="40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1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AC3B-8F9F-4A26-B663-CEADF87A3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84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ning Your Presentational Skill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1" descr="th.jpg"/>
          <p:cNvPicPr/>
          <p:nvPr/>
        </p:nvPicPr>
        <p:blipFill>
          <a:blip r:embed="rId1"/>
          <a:stretch/>
        </p:blipFill>
        <p:spPr>
          <a:xfrm>
            <a:off x="2414520" y="29718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 of teaching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 direct teach lesson: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the objective (s) clear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 the students as mu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ossible (try to break u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livery of content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nking the information and inserting several brain break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 and model the conce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 &amp; A or some other review at the closure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" descr="th-1.jpg"/>
          <p:cNvPicPr/>
          <p:nvPr/>
        </p:nvPicPr>
        <p:blipFill>
          <a:blip r:embed="rId1"/>
          <a:stretch/>
        </p:blipFill>
        <p:spPr>
          <a:xfrm>
            <a:off x="640080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ing a teach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ake note of the importance of the three skills of present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:  What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l:  How you sa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:  How you look and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134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8" descr="MCj02975670000[1]"/>
          <p:cNvPicPr/>
          <p:nvPr/>
        </p:nvPicPr>
        <p:blipFill>
          <a:blip r:embed="rId1"/>
          <a:stretch/>
        </p:blipFill>
        <p:spPr>
          <a:xfrm>
            <a:off x="3429000" y="4889520"/>
            <a:ext cx="274320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Visual: how you look &amp; ac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s profession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welcoming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mmunication – Look at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language – Be open to the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late whenever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 – Use an anticipatory s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– Review what was learned;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and answer s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using visual aids to make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ore comprehensible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MCj03341680000[1]"/>
          <p:cNvPicPr/>
          <p:nvPr/>
        </p:nvPicPr>
        <p:blipFill>
          <a:blip r:embed="rId1"/>
          <a:stretch/>
        </p:blipFill>
        <p:spPr>
          <a:xfrm>
            <a:off x="7015320" y="4419720"/>
            <a:ext cx="1823760" cy="20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ocal: how you say 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e enthusiasm, sincerity, and confid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the positive, not the neg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y the rhythm, rate, and volume of your v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mooth transitions.  Prepare the student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 regarding upcoming changes 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example, you may say something like, “Before we move on to the next activity, does anyone have any question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nciate and project your vo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on avoiding saying, “You guys,” “uh,” “um,”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erbal: what you s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you provide accurate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know the answer to a question,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make up an answ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the timing of what you do and s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what you are saying coincides with any references you make to visuals and other instructional materia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pare the tea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your lesson objective(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cipate the types of questions you might be asked and be ready with appropriate respon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visual aids that wi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 your presentatio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 prepared with all of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, practice, and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mo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1" descr="th-2.jpg"/>
          <p:cNvPicPr/>
          <p:nvPr/>
        </p:nvPicPr>
        <p:blipFill>
          <a:blip r:embed="rId1"/>
          <a:stretch/>
        </p:blipFill>
        <p:spPr>
          <a:xfrm>
            <a:off x="6400800" y="32767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 Black"/>
              </a:rPr>
              <a:t>Success!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will do a SUPERB job!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7-01-01T11:55:40Z</dcterms:modified>
  <cp:revision>51</cp:revision>
  <dc:subject/>
  <dc:title>Slide 1</dc:title>
</cp:coreProperties>
</file>